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68-D2A7-4887-B945-ACCAEE48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523-2F83-4500-AA29-421D357E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C86-D767-4249-8D89-B9B2F445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B67-6E34-45EF-B83A-0493D5CE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F6BF-1DC7-47B6-BE11-87988105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ED9-D940-4B46-ABDE-89505884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A682-04A2-493B-A99A-36650CD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DD8-E4E2-43C6-B746-4BCFAFD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C91-AF80-4EDB-BD63-A1F50FBC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C5FC-6C15-4FCB-A61B-8BF007AB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FCED-5D02-4289-8B8D-4B5D9EC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52B-2CCC-4CE0-94F7-FCDB172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78FC-B396-4E99-8EC9-79BE0579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7D3-EA4C-4C02-8154-04E7D2D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9A8-0914-490F-BEB2-EF33413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2E2-2708-4E87-8FD7-0FB12945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DF65-A859-4B5A-BB6D-772B3BC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53A-6F2D-4EDD-A026-2456069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E31-E5E8-4AA6-B37D-5CF6EDDE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85A-67FC-4774-A7E8-3C3C7AB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BF-9C4A-4914-9975-8AE8A22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5E9-1224-460B-8AD9-9816D3C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366-C9F3-4F1F-8CE2-3FCF05E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F92-F252-499C-8868-E5B610B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FDE02-A1F8-4176-98B1-8ABA47BDBF91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7C947-A7F5-4293-B5E4-DB323ECBD9B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307F2-6B89-47F7-B424-F5CB17F194C9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9EB40-79A1-4DCB-A89C-D84DB1B2C1A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835200" y="-6480"/>
            <a:ext cx="7321320" cy="2756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2" name="Subtitle 2" descr=""/>
          <p:cNvPicPr/>
          <p:nvPr/>
        </p:nvPicPr>
        <p:blipFill>
          <a:blip r:embed="rId3"/>
          <a:stretch/>
        </p:blipFill>
        <p:spPr>
          <a:xfrm>
            <a:off x="822240" y="2979720"/>
            <a:ext cx="7499520" cy="2971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26"/>
          <p:cNvSpPr/>
          <p:nvPr/>
        </p:nvSpPr>
        <p:spPr>
          <a:xfrm>
            <a:off x="1266840" y="685800"/>
            <a:ext cx="57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7680" y="201600"/>
            <a:ext cx="408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rea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98108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for breathing by looking if the chest is rising and put your hand close to their nose or mouth to see if you feel there breath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242560" cy="14698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22240" y="2049480"/>
            <a:ext cx="7499520" cy="4043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18920" y="31680"/>
            <a:ext cx="353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Circ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94120" y="13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2:52:57Z</dcterms:created>
  <dc:creator>kms kms</dc:creator>
  <dc:description/>
  <dc:language>en-US</dc:language>
  <cp:lastModifiedBy>Kraybill Campus LMS</cp:lastModifiedBy>
  <dcterms:modified xsi:type="dcterms:W3CDTF">2011-05-25T18:27:51Z</dcterms:modified>
  <cp:revision>11</cp:revision>
  <dc:subject/>
  <dc:title>Slide 1</dc:title>
</cp:coreProperties>
</file>